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6A20-3976-4019-BACD-C3BCE7043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BB57-2798-46A0-9505-9C4A21C16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E358-6667-4EA9-BE44-C47A73154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414F-723A-4698-AD77-4ABE49392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0F07-DBDC-4D1D-84CC-82E2A4ECD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4B8F-39A0-402B-9166-685D72057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6C00-4831-4126-B169-957909B61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35EE-A38C-4468-9E5A-ACBEFFCE8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C5FB-428C-406E-9CA2-107586367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370F-80BE-4476-A571-8AD18069A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496A-B761-4115-B751-1C37AAC1D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6615-52E9-43AA-940F-1EDC2D117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91C20-5DC2-4D95-A240-363DD8C5FC4F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Poetic devi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Gloss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600200"/>
            <a:ext cx="238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alliter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asson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onomatopoe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916000" y="1600200"/>
            <a:ext cx="577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use of the same or similar consonant sounds, usually at the beginnings of words in close proximity to each other, e.g.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he dove dived to its dea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use of the same vowel sounds, usually in the middle of words in close proximity to each other, e.g.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she rowed the boat in stony sil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ords that sound like the meaning they represent, e.g.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whisp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Gloss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19540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sibil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anaphor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repet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oxymor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2410920" y="1599840"/>
            <a:ext cx="64818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repeated use of the letters ‘s’ or ‘sh’, usually at the beginnings of words in close proximity to each other, e.g.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soft, scented, silky sat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repetition of the same or similar words at the beginning of successive lines or clau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ord, phrase or idea that re-appears throughout a poem or st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juxtaposition of two contradictory ide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Gloss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6840" y="1600200"/>
            <a:ext cx="2243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dial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non-standard Englis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regis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059280" y="1600200"/>
            <a:ext cx="562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local, regional or national variations in speech patterns and words used, e.g.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bairn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eans ‘baby’ in Scotl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use of words or phrases that are slang/not grammatically correct, usually in an informal context, e.g.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wan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formality/informality of language use depending on contex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Gloss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68000" y="1483920"/>
            <a:ext cx="18810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symbolis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rhetorical ques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verb tens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contra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411280" y="1484280"/>
            <a:ext cx="6553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use of a minor/small object or idea to represent a more significant concept/the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question posed without expecting an answer, usually for emphatic effect or to draw reader into the context and invite agreement or issue with a point of 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use of past, present or future verb forms according to context and desired eff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resentation of the opposite idea in order to create tension or bal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8T20:58:01Z</dcterms:created>
  <dc:creator>Jane Klima</dc:creator>
  <dc:description/>
  <dc:language>en-US</dc:language>
  <cp:lastModifiedBy>Jane Klima</cp:lastModifiedBy>
  <dcterms:modified xsi:type="dcterms:W3CDTF">2014-12-05T09:24:17Z</dcterms:modified>
  <cp:revision>50</cp:revision>
  <dc:subject/>
  <dc:title>La Belle Dame Sans Merci</dc:title>
</cp:coreProperties>
</file>